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8E397-7DB8-4DF4-816B-E2775F36B0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57913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5120" y="4289400"/>
            <a:ext cx="57913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CD77D-48E8-4116-8D18-0AFF761CAF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862960" y="198072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95120" y="428940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862960" y="428940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5FB4B-A431-4AEB-85FF-E5BFB1CCFE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186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53160" y="1980720"/>
            <a:ext cx="186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11200" y="1980720"/>
            <a:ext cx="186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895120" y="4289400"/>
            <a:ext cx="186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853160" y="4289400"/>
            <a:ext cx="186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811200" y="4289400"/>
            <a:ext cx="186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E6FA2-44B8-4A21-BA85-BB997162D5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895120" y="198072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2826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862960" y="1980720"/>
            <a:ext cx="2826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7760" y="457200"/>
            <a:ext cx="2971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862960" y="1980720"/>
            <a:ext cx="2826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895120" y="428940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895120" y="198072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03781-8F42-4541-BBD8-B9D631D842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2826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862960" y="198072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862960" y="428940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862960" y="198072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895120" y="4289400"/>
            <a:ext cx="57913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57913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895120" y="4289400"/>
            <a:ext cx="57913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862960" y="198072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895120" y="428940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862960" y="428940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186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53160" y="1980720"/>
            <a:ext cx="186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11200" y="1980720"/>
            <a:ext cx="186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895120" y="4289400"/>
            <a:ext cx="186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53160" y="4289400"/>
            <a:ext cx="186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811200" y="4289400"/>
            <a:ext cx="186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387A5-A954-4560-A6FE-F263936800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2826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862960" y="1980720"/>
            <a:ext cx="2826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B9DE2-9473-4DFF-83F8-D5786AC0EE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60F55-71B8-4F4D-A921-6F0B59934A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7760" y="457200"/>
            <a:ext cx="2971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2B06B-1C0C-4BEF-AFF4-6EDEE37869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862960" y="1980720"/>
            <a:ext cx="2826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895120" y="428940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AFCE2-8970-406F-8BB1-B2A7FABA6C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2826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862960" y="198072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862960" y="428940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50FF8-E20E-45A6-984F-17EAF378C9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862960" y="1980720"/>
            <a:ext cx="2826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895120" y="4289400"/>
            <a:ext cx="57913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FF4CD-6EE8-4438-B6CB-AEA1EFA66C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ckgrnd_0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705720" y="6400440"/>
            <a:ext cx="83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CCF0-0145-4BDE-9F55-F336B36C07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609480" y="5032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609480" y="6397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3276720" y="63975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lockworktempla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895120" y="198072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90560" y="2895480"/>
            <a:ext cx="6553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Times New Roman"/>
              </a:rPr>
              <a:t>Apreciaciones de un cuento de had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8120" y="457200"/>
            <a:ext cx="5333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Times New Roman"/>
              </a:rPr>
              <a:t>Apreciaciones en el a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Times New Roman"/>
              </a:rPr>
              <a:t>En el arte es la apreciación de una persona que ve una imagen o una esce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Times New Roman"/>
              </a:rPr>
              <a:t>Vamos a dar un vistazo a una fotografía para determinar la “apreciació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ChineseGarden3"/>
          <p:cNvPicPr/>
          <p:nvPr/>
        </p:nvPicPr>
        <p:blipFill>
          <a:blip r:embed="rId1"/>
          <a:stretch/>
        </p:blipFill>
        <p:spPr>
          <a:xfrm>
            <a:off x="2666880" y="1523880"/>
            <a:ext cx="3732480" cy="4953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hineseGarden2"/>
          <p:cNvPicPr/>
          <p:nvPr/>
        </p:nvPicPr>
        <p:blipFill>
          <a:blip r:embed="rId2"/>
          <a:stretch/>
        </p:blipFill>
        <p:spPr>
          <a:xfrm>
            <a:off x="2666880" y="1523880"/>
            <a:ext cx="3713400" cy="495324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6"/>
          <p:cNvSpPr/>
          <p:nvPr/>
        </p:nvSpPr>
        <p:spPr>
          <a:xfrm>
            <a:off x="6705720" y="2133720"/>
            <a:ext cx="2209680" cy="2857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783" y="6336"/>
                </a:moveTo>
                <a:lnTo>
                  <a:pt x="-745" y="864"/>
                </a:lnTo>
              </a:path>
              <a:path w="21600" h="21600">
                <a:moveTo>
                  <a:pt x="-745" y="0"/>
                </a:moveTo>
                <a:lnTo>
                  <a:pt x="-745" y="21600"/>
                </a:ln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Qué hay más allá del árbol verde, en el primer pla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Times New Roman"/>
              </a:rPr>
              <a:t>La apreciación en fotografí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Times New Roman"/>
              </a:rPr>
              <a:t>Una apreciación en una historia es como una apreciación en una fotografí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Times New Roman"/>
              </a:rPr>
              <a:t>Un ángulo diferente, en una imagen nos proporciona una nueva manera de pensar acerca de el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Las </a:t>
            </a:r>
            <a:r>
              <a:rPr b="0" lang="es-ES" sz="3200" spc="-1" strike="noStrike">
                <a:solidFill>
                  <a:srgbClr val="000099"/>
                </a:solidFill>
                <a:latin typeface="Times New Roman"/>
              </a:rPr>
              <a:t>apreciaciones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en litera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95480" y="1980720"/>
            <a:ext cx="6019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Times New Roman"/>
              </a:rPr>
              <a:t>En la literatura una apreciación es el punto en donde se conecta un lector de una historia, con la persona que cuenta la historia.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Times New Roman"/>
              </a:rPr>
              <a:t>En </a:t>
            </a:r>
            <a:r>
              <a:rPr b="0" i="1" lang="es-ES" sz="3200" spc="-1" strike="noStrike">
                <a:solidFill>
                  <a:srgbClr val="000099"/>
                </a:solidFill>
                <a:latin typeface="Times New Roman"/>
              </a:rPr>
              <a:t>Cendrillon</a:t>
            </a:r>
            <a:r>
              <a:rPr b="0" lang="es-ES" sz="3200" spc="-1" strike="noStrike">
                <a:solidFill>
                  <a:srgbClr val="000099"/>
                </a:solidFill>
                <a:latin typeface="Times New Roman"/>
              </a:rPr>
              <a:t>, sabemos que la persona que cuenta la historia es </a:t>
            </a:r>
            <a:r>
              <a:rPr b="0" i="1" lang="es-ES" sz="3200" spc="-1" strike="noStrike">
                <a:solidFill>
                  <a:srgbClr val="000099"/>
                </a:solidFill>
                <a:latin typeface="Times New Roman"/>
              </a:rPr>
              <a:t>Nannin, </a:t>
            </a:r>
            <a:r>
              <a:rPr b="0" lang="es-ES" sz="3200" spc="-1" strike="noStrike">
                <a:solidFill>
                  <a:srgbClr val="000099"/>
                </a:solidFill>
                <a:latin typeface="Times New Roman"/>
              </a:rPr>
              <a:t>la madrina de </a:t>
            </a:r>
            <a:r>
              <a:rPr b="0" i="1" lang="es-ES" sz="3200" spc="-1" strike="noStrike">
                <a:solidFill>
                  <a:srgbClr val="000099"/>
                </a:solidFill>
                <a:latin typeface="Times New Roman"/>
              </a:rPr>
              <a:t>Cendrill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5638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Times New Roman"/>
              </a:rPr>
              <a:t>La persona que cuenta la historia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95480" y="1980720"/>
            <a:ext cx="5562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Times New Roman"/>
              </a:rPr>
              <a:t>Tener un personaje que relate los eventos hace la historia más personal y ayuda a que el lector se sienta involucr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Times New Roman"/>
              </a:rPr>
              <a:t>La madrina de</a:t>
            </a:r>
            <a:r>
              <a:rPr b="0" i="1" lang="es-ES" sz="2800" spc="-1" strike="noStrike">
                <a:solidFill>
                  <a:srgbClr val="000099"/>
                </a:solidFill>
                <a:latin typeface="Times New Roman"/>
              </a:rPr>
              <a:t> Cendrillon</a:t>
            </a:r>
            <a:r>
              <a:rPr b="0" lang="es-ES" sz="2800" spc="-1" strike="noStrike">
                <a:solidFill>
                  <a:srgbClr val="000099"/>
                </a:solidFill>
                <a:latin typeface="Times New Roman"/>
              </a:rPr>
              <a:t> sólo puede ver las cosas desde su propio entendimiento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Times New Roman"/>
              </a:rPr>
              <a:t>Por ejemplo, ella no conoce los pensamientos de Cendrillon, pero ella puede decir lo que Cendrillon siente por sus acciones y sus palab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Times New Roman"/>
              </a:rPr>
              <a:t>¿Qué sucede cuando la apreciación cambia?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¿</a:t>
            </a:r>
            <a:r>
              <a:rPr b="0" lang="es-ES" sz="3200" spc="-1" strike="noStrike">
                <a:solidFill>
                  <a:srgbClr val="000099"/>
                </a:solidFill>
                <a:latin typeface="Times New Roman"/>
              </a:rPr>
              <a:t>Qué sucede si los malvados y </a:t>
            </a:r>
            <a:r>
              <a:rPr b="0" i="1" lang="es-ES" sz="3200" spc="-1" strike="noStrike">
                <a:solidFill>
                  <a:srgbClr val="000099"/>
                </a:solidFill>
                <a:latin typeface="Times New Roman"/>
              </a:rPr>
              <a:t>Madame Prosperine</a:t>
            </a:r>
            <a:r>
              <a:rPr b="0" lang="es-ES" sz="3200" spc="-1" strike="noStrike">
                <a:solidFill>
                  <a:srgbClr val="000099"/>
                </a:solidFill>
                <a:latin typeface="Times New Roman"/>
              </a:rPr>
              <a:t>, cuentan la historia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Times New Roman"/>
              </a:rPr>
              <a:t>¿Y si Paul cuenta la histori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Times New Roman"/>
              </a:rPr>
              <a:t>Otras apreci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95120" y="1981080"/>
            <a:ext cx="5791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Times New Roman"/>
              </a:rPr>
              <a:t>¿Cómo podría cambiar la historia si un narrador ajeno (omnisciente) contara la historia? Esta persona se conoce como un narrador tercia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Times New Roman"/>
              </a:rPr>
              <a:t>¿Y si fuera usted el que contara la historia? ¿Cómo cambiaría la historia? Esta persona se conoce como un narrador prima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7760" y="457200"/>
            <a:ext cx="5638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Times New Roman"/>
              </a:rPr>
              <a:t>¡Usted decide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95120" y="198072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Times New Roman"/>
              </a:rPr>
              <a:t>¿Sería </a:t>
            </a:r>
            <a:r>
              <a:rPr b="0" i="1" lang="es-ES" sz="3200" spc="-1" strike="noStrike">
                <a:solidFill>
                  <a:srgbClr val="000099"/>
                </a:solidFill>
                <a:latin typeface="Times New Roman"/>
              </a:rPr>
              <a:t>Cendrillon</a:t>
            </a:r>
            <a:r>
              <a:rPr b="0" lang="es-ES" sz="3200" spc="-1" strike="noStrike">
                <a:solidFill>
                  <a:srgbClr val="000099"/>
                </a:solidFill>
                <a:latin typeface="Times New Roman"/>
              </a:rPr>
              <a:t> un mejor cuento de hadas si otro personaje contara la histori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Times New Roman"/>
              </a:rPr>
              <a:t>Piense en esto cuando elija la próxima historia de Cenicienta para le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21:47:06Z</dcterms:created>
  <dc:creator>Jacqueline</dc:creator>
  <dc:description/>
  <dc:language>en-US</dc:language>
  <cp:lastModifiedBy>Jacqueline Arroyo</cp:lastModifiedBy>
  <dcterms:modified xsi:type="dcterms:W3CDTF">2008-08-05T18:45:53Z</dcterms:modified>
  <cp:revision>14</cp:revision>
  <dc:subject/>
  <dc:title>Point of View in Fairy Tales</dc:title>
</cp:coreProperties>
</file>